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AC35-2743-4928-805C-4717D4D7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EB5-C9BB-4915-B443-23FC2A0C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3494-6451-43BA-9418-A32F7C29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E2C-95A0-48C6-8829-398F85F5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B812-D3DB-4A8A-8EB7-55DC1FC9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FF65-AF51-4194-AD1E-9E8EDA6A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F62A-406A-4520-853B-C41084EA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D2B7-0D13-4FEE-BF90-C22259BB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7E5F-A317-492A-810F-91E82F3F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9283-0F60-4230-A3D2-A4A11C25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2618-EF50-4552-931B-B254158A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411-76C0-47D3-A9AB-257FB894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7FF8-04A8-4A81-AC4B-52C9E870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B4BE-2EAD-46E7-8689-C6CF2959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5D83-90EA-47C1-8753-413C53E0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151C-962D-465A-A5E9-A42B31FC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6086-7688-4537-842D-5A2D8306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925-5151-447C-A939-B4B3DE3E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A64-3414-401A-AF84-627C40DE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FF1-2B08-4AB8-B37D-7EA735E2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259E-DCD6-4CCE-BADC-DEF1EAD3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0C7-7D8A-4AB7-85A9-0FBB7234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7351-B335-46C1-B157-07CAF7BD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3E4-8B16-4065-9187-6B3F7F46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5A02-6114-41B9-831A-8F86374D8B8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6FF2-25BF-4030-BF4A-DAFA39E5052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8134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  <a:ea typeface="华文行楷"/>
              </a:rPr>
              <a:t>共创班级荣誉</a:t>
            </a:r>
            <a:br>
              <a:rPr sz="9600"/>
            </a:br>
            <a:r>
              <a:rPr b="1" lang="zh-CN" sz="9600" spc="-1" strike="noStrike">
                <a:solidFill>
                  <a:srgbClr val="ffff00"/>
                </a:solidFill>
                <a:latin typeface="Arial"/>
                <a:ea typeface="华文行楷"/>
              </a:rPr>
              <a:t>     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华文行楷"/>
              </a:rPr>
              <a:t>—荣辱观教育</a:t>
            </a:r>
            <a:endParaRPr b="0" lang="en-US" sz="6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-9036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Arial"/>
                <a:ea typeface="华文行楷"/>
              </a:rPr>
              <a:t>最初的梦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459640" y="26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6720" y="83052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如果骄傲没被现实大海冷冷拍下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又怎会懂得要多努力，才走得到远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如果梦想不曾坠落悬崖千钧一发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又怎会晓得执着的人，有隐形翅牓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把眼泪种在心上，会开出勇敢的花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可以在疲惫的时光，闭上眼睛闻到一种芬芳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就像好好睡了一夜直到天亮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又能边走着边哼着歌，用轻快的步伐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沮丧时总会明显感到孤独的重量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渴望懂得的人给些温暖借个肩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很高兴一路上我们的默契那么长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过风又绕个弯心还连着，像往常一样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最初的梦想紧握在手上，最想要去的地方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怎么能在半路就返航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最初的梦想绝对会到达，实现了真的渴望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才能够算到过了天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96339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12720" y="91764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一、回忆幸福时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400" y="193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二、交流和讨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7400" y="3006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三、联系实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4014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四、班级存在问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2720" y="4950000"/>
            <a:ext cx="84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五、共同努力，创建美好班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340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66"/>
                </a:solidFill>
                <a:latin typeface="Arial"/>
                <a:ea typeface="华文行楷"/>
              </a:rPr>
              <a:t>交流和讨论</a:t>
            </a:r>
            <a:endParaRPr b="0" lang="en-US" sz="7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341000"/>
            <a:ext cx="8540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军训中最让你感动的是什么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从开学到现在班里最让你感动的事是什么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414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66"/>
                </a:solidFill>
                <a:latin typeface="Arial"/>
                <a:ea typeface="华文行楷"/>
              </a:rPr>
              <a:t>交流和讨论</a:t>
            </a:r>
            <a:endParaRPr b="0" lang="en-US" sz="7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701360"/>
            <a:ext cx="85406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运动会第一天当看着其他班级一次又一次走上领奖台，而我们却只能坐冷板凳，你心里什么感受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运动会第二天当踢毽子第二、跳绳第一、接力第一的捷报一一传来你心里又有什么样的感受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66"/>
                </a:solidFill>
                <a:latin typeface="Arial"/>
                <a:ea typeface="华文行楷"/>
              </a:rPr>
              <a:t>交流和讨论</a:t>
            </a:r>
            <a:endParaRPr b="0" lang="en-US" sz="7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423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如何判断一个人素质的高低？如何做一个高素质的人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如何判断一个班级的好坏？怎么样才能使一个班级越来越好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好的班级对个人的发展是不是有帮助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4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大家进步，集体光荣 ，集体成功，大家光荣。</a:t>
            </a:r>
            <a:r>
              <a:rPr b="0" lang="zh-CN" sz="4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1159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66"/>
                </a:solidFill>
                <a:latin typeface="Arial"/>
                <a:ea typeface="华文行楷"/>
              </a:rPr>
              <a:t>联系实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36360" y="1297080"/>
            <a:ext cx="91440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题一：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一天上学小马迟到了。他班上不被扣分，写上了别人的名字。你对此事有何看法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?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爱班应该如何去爱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题二：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小王行为习惯不好，但责任心和集体荣誉感很强，一直想为班级做点事，通过竞选，成了班长。但由于以前的习惯，说话、违纪现象仍有发生，遇到这种情况应该怎么办？如果你是小王，老师或同学给你指出你会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1680" y="189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66"/>
                </a:solidFill>
                <a:latin typeface="Arial"/>
                <a:ea typeface="华文行楷"/>
              </a:rPr>
              <a:t>联系实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2400" y="1197000"/>
            <a:ext cx="88423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问题三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早自习时小明在课堂上吵吵闹闹，小芳去制止，结果没想到小明非但不听还骂小芳多管闲事，小芳很尴尬，不知如何是好。你觉得小明的行为对吗？会对小芳的管理产生什么样的影响？如果你是小明应该怎么做？如果你也是班委应该怎么配合小芳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问题四：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又一天小伟在自修课时说笑吃东西，小芳想去制止又怕管不住还得罪同学，不知如何是好。你觉得小芳应该怎么做呢？作为班委我们应该如何履行自己的职责呢？如果你是普通同学应该如何配合班委的工作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1680" y="189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66"/>
                </a:solidFill>
                <a:latin typeface="Arial"/>
                <a:ea typeface="华文行楷"/>
              </a:rPr>
              <a:t>班里存在问题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41440"/>
            <a:ext cx="88423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大家好好想一想班里还存在哪些问题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1440" y="192204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标：  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集体成功，大家光荣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家进步，集体光荣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方法：  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正当争取，主动承担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尽心尽力，搞好团结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2920" y="33336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华文行楷"/>
              </a:rPr>
              <a:t>共同努力，创建美好班级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1:32:5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15:33Z</dcterms:modified>
  <cp:revision>60</cp:revision>
  <dc:subject>主题班会课件(分28大类): http://shop62905894.taobao.com</dc:subject>
  <dc:title>主题班会课件(分28大类): http://shop62905894.taobao.com</dc:title>
</cp:coreProperties>
</file>